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F76-F07A-4059-9E72-1F5E8127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335-196A-4178-BE32-F26EC7E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432-48F0-44E1-AC77-63A9FE2C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810-9CED-47FE-82E7-55F3DDCD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577-4E1A-42A3-B225-8F6B5E1A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A3F-715B-4AB0-A2EB-1C585942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903-9B7D-421D-AEED-C5529B85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0F7-5AD7-41D7-BA78-0748CEAB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F17-741D-4BD6-BB75-697CAAEA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0FF-D34F-4E6A-8AB2-5645954E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1FB-0C25-4147-8C6A-960B669E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2A9-C75F-4ABB-83DB-1ADCC1B4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62D7-37AA-46B7-94FF-0BB65E21F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7:48:57Z</dcterms:created>
  <dc:creator>Grupo Editorial</dc:creator>
  <dc:description/>
  <dc:language>en-US</dc:language>
  <cp:lastModifiedBy>Grupo Editorial</cp:lastModifiedBy>
  <dcterms:modified xsi:type="dcterms:W3CDTF">2001-11-21T17:51:51Z</dcterms:modified>
  <cp:revision>1</cp:revision>
  <dc:subject/>
  <dc:title>Sin título de diapositiva</dc:title>
</cp:coreProperties>
</file>